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8766-BD8F-4F39-9512-D62A43D53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B2E7-8005-4AFE-ACE5-0DF35216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02B2-329E-426E-92F2-0BD2047B3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E3CC-ED9B-46D3-A66F-B9DFAA2B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D341-BAE4-4FA7-B94C-24EA90E1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11B0-BBC7-4C00-83E1-C72B7132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4469-3BE1-4BDB-A273-7B411C8F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0898-ABC4-4F63-82F5-6386B361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D6F4-CFB8-492A-90A5-4187521E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88A8-0B76-4390-80C0-F53534FD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8284-2081-4F8B-AFDE-5567B458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0D32-D161-42EA-9886-71382439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5374-18E1-4983-B03D-459ADC106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same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dimension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7-10-01T01:42:19Z</dcterms:modified>
  <cp:revision>1</cp:revision>
  <dc:subject/>
  <dc:title>Dimension aggregation</dc:title>
</cp:coreProperties>
</file>